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D9AC-CD83-4232-9304-37D02D04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5CBE-4F25-4CCA-A199-6980E4D6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D7A5-F111-4F95-8270-52A26FBA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6171-3D5E-434A-8603-9D7E9FE2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9900-3C8E-4578-855C-1880BCEC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589A-624A-4D11-B4DB-72DF821C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E5D-267F-45AA-9751-C83F53A8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1908-B29E-460B-A4DF-7A44C510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9101-A2B3-4EAF-AF81-D272DC2F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3E8-3CF7-4064-A008-CBE86C8C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2E90-CA98-4312-B2EC-AD46EF36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471A-FCBC-4C08-B279-3E104832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832F-637A-4576-8E2A-ECD86FF6B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Documents and Settings\arton\My Documents\works\rubyKaigi 2006\agenda.hta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Documents and Settings\arton\My Documents\works\rubyKaigi 2006\JSRubyize.hta" TargetMode="External"/><Relationship Id="rId3" Type="http://schemas.openxmlformats.org/officeDocument/2006/relationships/hyperlink" Target="C:\Documents and Settings\arton\My Documents\works\rubyKaigi 2006\VBSRubyize.hta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ize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による言語境界の越え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banner" descr=""/>
          <p:cNvPicPr/>
          <p:nvPr/>
        </p:nvPicPr>
        <p:blipFill>
          <a:blip r:embed="rId1"/>
          <a:stretch/>
        </p:blipFill>
        <p:spPr>
          <a:xfrm>
            <a:off x="3924360" y="3141720"/>
            <a:ext cx="4762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ctiveScriptHo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直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by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をホストするより簡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スクリプトニュートラ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/>
          </p:cNvPr>
          <p:cNvSpPr/>
          <p:nvPr/>
        </p:nvSpPr>
        <p:spPr>
          <a:xfrm>
            <a:off x="6877080" y="476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Less" w="21600" h="21643">
                <a:moveTo>
                  <a:pt x="5273" y="4007"/>
                </a:moveTo>
                <a:lnTo>
                  <a:pt x="12271" y="4007"/>
                </a:lnTo>
                <a:lnTo>
                  <a:pt x="16327" y="7505"/>
                </a:lnTo>
                <a:lnTo>
                  <a:pt x="16327" y="17637"/>
                </a:lnTo>
                <a:lnTo>
                  <a:pt x="5273" y="17637"/>
                </a:lnTo>
                <a:close/>
              </a:path>
              <a:path fill="darken" w="21600" h="21643">
                <a:moveTo>
                  <a:pt x="12271" y="4007"/>
                </a:moveTo>
                <a:lnTo>
                  <a:pt x="16327" y="7505"/>
                </a:lnTo>
                <a:lnTo>
                  <a:pt x="12271" y="7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in32O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3933720"/>
            <a:ext cx="2160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助田さん作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isp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オートメーショ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型フラグとデータによる汎用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ypeInf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オブジェクトの型情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TB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Unknown*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Re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e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lassFa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reateInstance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レジスト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S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S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ndows Script Compon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rObj.D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スクリプト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のオブジェク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byiz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y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4653000"/>
            <a:ext cx="24480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付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インストールディレクト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samples\ruby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準備：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svr32 rbobj.w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利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ruby = CreateObject("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ruby.o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y = ActiveXObject.new ("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ruby.o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y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"/>
          </p:cNvPr>
          <p:cNvSpPr/>
          <p:nvPr/>
        </p:nvSpPr>
        <p:spPr>
          <a:xfrm>
            <a:off x="3708360" y="1916280"/>
            <a:ext cx="1042920" cy="504720"/>
          </a:xfrm>
          <a:custGeom>
            <a:avLst/>
            <a:gdLst>
              <a:gd name="textAreaLeft" fmla="*/ 32400 w 1042920"/>
              <a:gd name="textAreaRight" fmla="*/ 1010520 w 104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4616" h="21600">
                <a:moveTo>
                  <a:pt x="0" y="0"/>
                </a:moveTo>
                <a:lnTo>
                  <a:pt x="44616" y="0"/>
                </a:lnTo>
                <a:lnTo>
                  <a:pt x="44616" y="21600"/>
                </a:lnTo>
                <a:lnTo>
                  <a:pt x="0" y="21600"/>
                </a:lnTo>
                <a:close/>
              </a:path>
              <a:path fill="lightenLess" w="44616" h="21600">
                <a:moveTo>
                  <a:pt x="0" y="0"/>
                </a:moveTo>
                <a:lnTo>
                  <a:pt x="44616" y="0"/>
                </a:lnTo>
                <a:lnTo>
                  <a:pt x="43216" y="1400"/>
                </a:lnTo>
                <a:lnTo>
                  <a:pt x="1400" y="1400"/>
                </a:lnTo>
                <a:close/>
              </a:path>
              <a:path fill="darken" w="44616" h="21600">
                <a:moveTo>
                  <a:pt x="44616" y="0"/>
                </a:moveTo>
                <a:lnTo>
                  <a:pt x="44616" y="21600"/>
                </a:lnTo>
                <a:lnTo>
                  <a:pt x="43216" y="20200"/>
                </a:lnTo>
                <a:lnTo>
                  <a:pt x="43216" y="1400"/>
                </a:lnTo>
                <a:close/>
              </a:path>
              <a:path fill="darkenLess" w="44616" h="21600">
                <a:moveTo>
                  <a:pt x="44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16" y="20200"/>
                </a:lnTo>
                <a:close/>
              </a:path>
              <a:path fill="lighten" w="44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16" h="21600">
                <a:moveTo>
                  <a:pt x="15302" y="3794"/>
                </a:moveTo>
                <a:lnTo>
                  <a:pt x="29315" y="10800"/>
                </a:lnTo>
                <a:lnTo>
                  <a:pt x="153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33440" y="1844640"/>
            <a:ext cx="17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3"/>
          </p:cNvPr>
          <p:cNvSpPr/>
          <p:nvPr/>
        </p:nvSpPr>
        <p:spPr>
          <a:xfrm>
            <a:off x="3708360" y="3141720"/>
            <a:ext cx="1042920" cy="519120"/>
          </a:xfrm>
          <a:custGeom>
            <a:avLst/>
            <a:gdLst>
              <a:gd name="textAreaLeft" fmla="*/ 33480 w 1042920"/>
              <a:gd name="textAreaRight" fmla="*/ 1009440 w 1042920"/>
              <a:gd name="textAreaTop" fmla="*/ 33480 h 519120"/>
              <a:gd name="textAreaBottom" fmla="*/ 485640 h 519120"/>
            </a:gdLst>
            <a:ahLst/>
            <a:rect l="textAreaLeft" t="textAreaTop" r="textAreaRight" b="textAreaBottom"/>
            <a:pathLst>
              <a:path w="43380" h="21600">
                <a:moveTo>
                  <a:pt x="0" y="0"/>
                </a:moveTo>
                <a:lnTo>
                  <a:pt x="43380" y="0"/>
                </a:lnTo>
                <a:lnTo>
                  <a:pt x="43380" y="21600"/>
                </a:lnTo>
                <a:lnTo>
                  <a:pt x="0" y="21600"/>
                </a:lnTo>
                <a:close/>
              </a:path>
              <a:path fill="lightenLess" w="43380" h="21600">
                <a:moveTo>
                  <a:pt x="0" y="0"/>
                </a:moveTo>
                <a:lnTo>
                  <a:pt x="43380" y="0"/>
                </a:lnTo>
                <a:lnTo>
                  <a:pt x="41980" y="1400"/>
                </a:lnTo>
                <a:lnTo>
                  <a:pt x="1400" y="1400"/>
                </a:lnTo>
                <a:close/>
              </a:path>
              <a:path fill="darken" w="43380" h="21600">
                <a:moveTo>
                  <a:pt x="43380" y="0"/>
                </a:moveTo>
                <a:lnTo>
                  <a:pt x="43380" y="21600"/>
                </a:lnTo>
                <a:lnTo>
                  <a:pt x="41980" y="20200"/>
                </a:lnTo>
                <a:lnTo>
                  <a:pt x="41980" y="1400"/>
                </a:lnTo>
                <a:close/>
              </a:path>
              <a:path fill="darkenLess" w="43380" h="21600">
                <a:moveTo>
                  <a:pt x="43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80" y="20200"/>
                </a:lnTo>
                <a:close/>
              </a:path>
              <a:path fill="lighten" w="43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80" h="21600">
                <a:moveTo>
                  <a:pt x="14683" y="3794"/>
                </a:moveTo>
                <a:lnTo>
                  <a:pt x="28696" y="10800"/>
                </a:lnTo>
                <a:lnTo>
                  <a:pt x="146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60360" y="2997360"/>
            <a:ext cx="21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B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y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197000"/>
            <a:ext cx="2303640" cy="53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5516640"/>
            <a:ext cx="4681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3640" y="1197000"/>
            <a:ext cx="4680000" cy="180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3640" y="3429000"/>
            <a:ext cx="4681440" cy="208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3640" y="2997360"/>
            <a:ext cx="4681440" cy="502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ScriptRu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32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3357720"/>
            <a:ext cx="504720" cy="2158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2492280"/>
            <a:ext cx="1081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95640" y="3789360"/>
            <a:ext cx="1584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ng:Ar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16360" y="2781360"/>
            <a:ext cx="0" cy="1008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2492280"/>
            <a:ext cx="1584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BClass: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378936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‘VB’=&gt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804000" y="2852640"/>
            <a:ext cx="0" cy="936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y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5373720"/>
            <a:ext cx="62661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3789360"/>
            <a:ext cx="626616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Obj.D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08720" y="2565360"/>
            <a:ext cx="1440000" cy="360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*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2565360"/>
            <a:ext cx="62661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Script18.D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1557360"/>
            <a:ext cx="81378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vcrt-ruby18.dl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1773360"/>
            <a:ext cx="11527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00720" y="213372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2852640"/>
            <a:ext cx="1152720" cy="43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ispatch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720" y="3284640"/>
            <a:ext cx="0" cy="2449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3860640"/>
            <a:ext cx="187344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ctiveScriptSite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2852640"/>
            <a:ext cx="1871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ctiveScript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835280" y="321264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4365720"/>
            <a:ext cx="1152360" cy="43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ispatch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35280" y="4797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11:52:56Z</dcterms:created>
  <dc:creator>arton</dc:creator>
  <dc:description/>
  <dc:language>en-US</dc:language>
  <cp:lastModifiedBy>arton</cp:lastModifiedBy>
  <dcterms:modified xsi:type="dcterms:W3CDTF">2006-06-09T17:58:50Z</dcterms:modified>
  <cp:revision>51</cp:revision>
  <dc:subject/>
  <dc:title>Rubyize   による言語境界の越え方 </dc:title>
</cp:coreProperties>
</file>